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F74-1061-4EA3-8688-8D100337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B32-ECD8-43B9-9382-6509C449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358-ABC6-4615-9D31-A66576B7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A6F-9837-4E1D-B035-3757D7EF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AE0-969A-4C0E-BCA5-A0C85059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7AB2-57F5-4305-B317-E84B86CD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BCF-C2E1-4244-B277-7F9A1D6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0770-D644-419B-BED3-0AB846B6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31B-77E5-4A25-8695-24A95D1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01A2-D667-4AA3-822A-9341C7DA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7903-C47F-46E5-941E-6B753B7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39B-78B0-4702-8056-DDE7DF9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8D3-18B7-4D52-9967-85632AF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F51-1900-4B59-882B-7F64A52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BA7B-8B40-4A68-B400-18D7314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8BFD-BDD8-4410-841C-0BD5EF56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2404-069D-4F3C-B813-835A9189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A80-0C8D-4EF7-B317-0F13DAB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405-FD74-44F5-9578-3304916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E9E-317C-4027-9D73-E1EE9EC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A6E-81DA-4EEE-A5A8-6490DFFD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C92-0DD5-48E1-A660-9E95D9E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CB8-141F-4FF6-96D7-1905C90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64F-D3BF-40F2-B28F-0747A5F3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0C3-DF22-46E2-9221-8E17BAC25779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A84-932A-43B8-8C82-6264F1EEDB4F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3916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Warm-up:  Construct the following triangles…</a:t>
            </a: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1.  2 inch side, 1 inch side, 82 degree angle.</a:t>
            </a:r>
            <a:br>
              <a:rPr sz="5200"/>
            </a:br>
            <a:br>
              <a:rPr sz="5200"/>
            </a:b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2.  34 degree angle, 62 degree angle, 8 cm. Line.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596880"/>
            <a:ext cx="81151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bjective:  Students will use the appropriate tools to construct triangles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88604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lete the practice worksheet and compare results with others at your table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rly finishers, on the back of your paper, create your own criteria for additional triangles and construct.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596520"/>
            <a:ext cx="7810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EXIT TICKET TIME!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3124080"/>
            <a:ext cx="79502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omework:  BCR Workshee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3:45:16Z</dcterms:created>
  <dc:creator>Brian McGrath</dc:creator>
  <dc:description/>
  <dc:language>en-US</dc:language>
  <cp:lastModifiedBy>deanne elizabeth mcgrath</cp:lastModifiedBy>
  <dcterms:modified xsi:type="dcterms:W3CDTF">2011-02-09T13:30:42Z</dcterms:modified>
  <cp:revision>2</cp:revision>
  <dc:subject/>
  <dc:title>Warm-up:  Construct the following triangles…  1.  2 inch side, 1 inch side, 82 degree angle.  2.  34 degree angle, 62 degree angle, 8 cm. Line. </dc:title>
</cp:coreProperties>
</file>